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070-DC65-41B5-B096-395DDB5F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B9A-A1C8-44DF-9B3D-79CF0BC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C78-2D27-4F67-B6A6-19B1DA7E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4F-DBFC-4303-963C-84A79463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6D3-434A-4C05-B55A-94B7D366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8E8C-193A-4C65-8CCB-9E50681C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EA9-A80A-4006-98F5-9E37A69F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4232-D717-4C8E-82FF-4196F136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CD6-5A1B-4A9B-910C-D441586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6B4A-A71B-4EF6-958C-2A6BB5F0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8CA-2CE1-4A1A-AD5A-446BCFC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047-84D4-4404-89B4-656DF9EA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2D2-2D44-40BC-B847-4AC965B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1EC1-9C33-48D7-BF4A-B31E08A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7594-C4E6-4475-9345-D41C12C8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FBA1-482F-40CA-A6FA-45255109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001-64A7-4091-B241-A1C97159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84C-CCB5-4E6A-933A-FC36AB4B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DD-4394-44B4-87AE-E67506E3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658-2AAE-4C49-98B4-911A819E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848-2A35-4C17-8BC6-5D6F30A9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314-7460-40D5-9BBF-8C73684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0D3-4D10-4CA4-AA7A-4D9B87A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FFA-1AA0-40DC-9591-1B946F4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CE18-6C26-47F2-AE58-7E217D44B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E1E-9923-47E6-A8D3-E14B97CC7F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Teachers Must Become Change Agents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hael Fulla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Karen Burke, C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Connecticut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 Refle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become a educ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remain in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j0215317"/>
          <p:cNvPicPr/>
          <p:nvPr/>
        </p:nvPicPr>
        <p:blipFill>
          <a:blip r:embed="rId1"/>
          <a:stretch/>
        </p:blipFill>
        <p:spPr>
          <a:xfrm>
            <a:off x="6764400" y="3809880"/>
            <a:ext cx="200484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 Make A Difference in the Lives of Studen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ullan’s The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eaching a noble and effective profession teachers must combine the mantle of moral purpose with the skills of change ag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231730"/>
          <p:cNvPicPr/>
          <p:nvPr/>
        </p:nvPicPr>
        <p:blipFill>
          <a:blip r:embed="rId1"/>
          <a:stretch/>
        </p:blipFill>
        <p:spPr>
          <a:xfrm>
            <a:off x="3809880" y="4267080"/>
            <a:ext cx="335304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Four Core Capacities for Building Greater Change Capacity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Vision-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215490"/>
          <p:cNvPicPr/>
          <p:nvPr/>
        </p:nvPicPr>
        <p:blipFill>
          <a:blip r:embed="rId1"/>
          <a:stretch/>
        </p:blipFill>
        <p:spPr>
          <a:xfrm>
            <a:off x="6019920" y="3352680"/>
            <a:ext cx="2797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 Vision-Build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ing and re-examining why we came into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fference am I trying to make pers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vision forces us to take a stand for a preferred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Assignment: Write your own vision statement for you as an edu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qui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sential activity for keeping our paradigm current is persistent question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long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long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ed by information and idea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45611"/>
          <p:cNvPicPr/>
          <p:nvPr/>
        </p:nvPicPr>
        <p:blipFill>
          <a:blip r:embed="rId1"/>
          <a:stretch/>
        </p:blipFill>
        <p:spPr>
          <a:xfrm>
            <a:off x="7467480" y="152280"/>
            <a:ext cx="13924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ste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ise is central to successfu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initial teac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long staf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just exposed to new ideas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283212"/>
          <p:cNvPicPr/>
          <p:nvPr/>
        </p:nvPicPr>
        <p:blipFill>
          <a:blip r:embed="rId1"/>
          <a:stretch/>
        </p:blipFill>
        <p:spPr>
          <a:xfrm>
            <a:off x="6629400" y="4648320"/>
            <a:ext cx="22096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labor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ceiling effect to how much we can learn if we keep it to our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as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4:04:44Z</dcterms:created>
  <dc:creator>Information Technology</dc:creator>
  <dc:description/>
  <dc:language>en-US</dc:language>
  <cp:lastModifiedBy>Karen Burke</cp:lastModifiedBy>
  <dcterms:modified xsi:type="dcterms:W3CDTF">2009-06-17T12:00:24Z</dcterms:modified>
  <cp:revision>13</cp:revision>
  <dc:subject/>
  <dc:title>Why Teachers Must Become Change Agents Michael Fullan</dc:title>
</cp:coreProperties>
</file>